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900-699C-4E93-8CB0-4E873831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51F-204D-4D37-A30E-D095CC6E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DAA-48B6-4DFE-BEA7-8D7B1B5A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9A2-5AF6-492A-8DD2-7311F398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3B86-8DFD-4642-927B-A844E1D7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7A60-F284-4F60-8047-88E67105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D326-4727-4A74-BB8C-EC8CD723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D448-9292-4A8E-9AE8-FE6CC3C2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2EF7-2A64-4039-9D80-92036D1E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E011-3886-41A4-B73D-C0E40DFA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0544-B22D-4C62-B8F6-5F2D45F4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9F1-C7AB-4026-A903-E43AC0EA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1EAB-4917-420E-8D84-FC1C4191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A222-AEA1-456B-ADBC-C7740EDF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3035-D61B-4A82-ACEB-161091E9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2B04-11C2-42CC-A9CC-76B421EA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6825-1134-4DEC-A13C-FA3E07B1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DC210-04D4-4831-85C8-F6015027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8270-7CF5-4794-9281-AD9A9D00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BEFC-EA01-4385-B45F-E3681474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692F-057E-4528-A4B5-1859C35E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9DB7-31E9-408A-AC79-B7BA2454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A3A-5F69-4E66-A1E3-4D4EB2FB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EBB8-CC74-473F-BB66-6CD7EA27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6943-0D0F-4857-B75B-1FAB658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A47E-AC17-4652-A07C-058E39CE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3233-14E7-4208-B85F-BDFFE117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CF31-1198-4961-854F-CE41490D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842A-6CAE-4B08-B310-86ADAC93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10EE-8596-4B7D-A3F5-2FB244CF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0B55-2B5F-4492-BF01-39E56794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3C952-8926-4080-B0CC-2D75122A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55BE-28E6-4C2D-97EB-2A29DF0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EB4-262D-4523-B0E0-F0B4EEBB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31562-8445-4516-9A32-33DDDBD3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3B519-13B4-4D3B-ABA0-88E104D3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CD59B-8309-4619-8A32-4D63E928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56C6-9B2D-4F45-A065-54BB93BE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76D50-FF3C-4F74-9511-46BF2444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9238C-F98E-45C7-9345-577D031F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CC245-508D-465D-9914-4F720409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7F9B9-F447-4339-BA30-7DA1CA48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E7BCF-6CCE-42F9-ACCB-099EFC37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1A5-7D69-4936-89CE-DB006C7A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9C2-13A9-4329-BCB5-850560F1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D8C-DA82-4129-9C6A-152DD086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212-286F-4020-A6B9-253A7E2F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71D-EA9B-4DCD-A808-275F53E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E1D3-40F5-4C86-9EBF-CF3F4B3F17C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6890-BC9F-41E7-BA2D-C6C3F570A4C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B7F7-3E8C-4F01-8238-CB69D5999DA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0227-DC4F-4903-B074-63CBA95739B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88320" cy="1847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ыполнила студентка 636 группы Горбунова Н.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83763"/>
                </a:solidFill>
                <a:latin typeface="Calibri"/>
              </a:rPr>
              <a:t>Моллюски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 тип моллюски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Моллюск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ипичные водные животн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троение тел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овищный мешоче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итание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и микроскопические животные; растительные и животные остат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реда обит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еные и пресноводные воды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83763"/>
                </a:solidFill>
                <a:latin typeface="Calibri"/>
              </a:rPr>
              <a:t>Насекомые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ип Членистоногие, класс Насекомые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84e"/>
                </a:solidFill>
                <a:latin typeface="Constantia"/>
              </a:rPr>
              <a:t>Насекомы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– самый многочисленный класс на Зем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84e"/>
                </a:solidFill>
                <a:latin typeface="Constantia"/>
              </a:rPr>
              <a:t>Строение тел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ол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руд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рюш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Тело покрыто прочным хитиновым покро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84e"/>
                </a:solidFill>
                <a:latin typeface="Constantia"/>
              </a:rPr>
              <a:t>Питани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нообраз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3" descr="D:\натташа\картинки\Для презентаций\Насекомые\Ползающие\ANTHILL.jpg"/>
          <p:cNvPicPr/>
          <p:nvPr/>
        </p:nvPicPr>
        <p:blipFill>
          <a:blip r:embed="rId1"/>
          <a:stretch/>
        </p:blipFill>
        <p:spPr>
          <a:xfrm>
            <a:off x="7643880" y="785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натташа\картинки\Для презентаций\Насекомые\Летающие\YELLOWJA.jpg"/>
          <p:cNvPicPr/>
          <p:nvPr/>
        </p:nvPicPr>
        <p:blipFill>
          <a:blip r:embed="rId2"/>
          <a:stretch/>
        </p:blipFill>
        <p:spPr>
          <a:xfrm>
            <a:off x="7643880" y="5357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D:\натташа\картинки\Для презентаций\Насекомые\Летающие\FLYIN003.jpg"/>
          <p:cNvPicPr/>
          <p:nvPr/>
        </p:nvPicPr>
        <p:blipFill>
          <a:blip r:embed="rId3"/>
          <a:stretch/>
        </p:blipFill>
        <p:spPr>
          <a:xfrm>
            <a:off x="857160" y="2928960"/>
            <a:ext cx="1857600" cy="142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83763"/>
                </a:solidFill>
                <a:latin typeface="Calibri"/>
              </a:rPr>
              <a:t>Жуки </a:t>
            </a:r>
            <a:br>
              <a:rPr sz="4500"/>
            </a:b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тип Членистоногие, класс Насекомые, отряд Жесткокрылые, или Жуки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Жу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чень большой и разнообразный отряд Насеком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троение тел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лове – ротовой аппарат, глаза ,уси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уди – три пары членистых конечностей и две пары крылье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и – роющие, бегающие или плавающ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ита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раст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реда обита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листья, почва, корень, ствол дерева,  плод, цветок, сем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D:\натташа\картинки\Для презентаций\Насекомые\Ползающие\COCKROAC.jpg"/>
          <p:cNvPicPr/>
          <p:nvPr/>
        </p:nvPicPr>
        <p:blipFill>
          <a:blip r:embed="rId1"/>
          <a:stretch/>
        </p:blipFill>
        <p:spPr>
          <a:xfrm>
            <a:off x="6429240" y="3571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83763"/>
                </a:solidFill>
                <a:latin typeface="Calibri"/>
              </a:rPr>
              <a:t>Амфибии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тип Хордовые, подтип Позвоночные, класс Амфибии, или Земноводные, отряд Бесхвостые, род лягушки, род Жабы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9" name="Скругленный прямоугольник 3"/>
          <p:cNvGrpSpPr/>
          <p:nvPr/>
        </p:nvGrpSpPr>
        <p:grpSpPr>
          <a:xfrm>
            <a:off x="712800" y="2610000"/>
            <a:ext cx="2432160" cy="3571560"/>
            <a:chOff x="712800" y="2610000"/>
            <a:chExt cx="2432160" cy="3571560"/>
          </a:xfrm>
        </p:grpSpPr>
        <p:pic>
          <p:nvPicPr>
            <p:cNvPr id="21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12800" y="2610000"/>
              <a:ext cx="243216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896760" y="2754360"/>
              <a:ext cx="206388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Constantia"/>
                </a:rPr>
                <a:t>Безног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Constantia"/>
                </a:rPr>
                <a:t>(Амфиби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Похожи на Змей. нет конечностей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По строению кожи, способу размножения и дыхания они являются Земноводны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Скругленный прямоугольник 7"/>
          <p:cNvGrpSpPr/>
          <p:nvPr/>
        </p:nvGrpSpPr>
        <p:grpSpPr>
          <a:xfrm>
            <a:off x="3352680" y="2610000"/>
            <a:ext cx="2438640" cy="3571560"/>
            <a:chOff x="3352680" y="2610000"/>
            <a:chExt cx="2438640" cy="3571560"/>
          </a:xfrm>
        </p:grpSpPr>
        <p:pic>
          <p:nvPicPr>
            <p:cNvPr id="213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352680" y="2610000"/>
              <a:ext cx="243864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540240" y="2754360"/>
              <a:ext cx="20635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Constantia"/>
                </a:rPr>
                <a:t>Хвостат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Constantia"/>
                </a:rPr>
                <a:t>( Тритон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Легко живут в неволе. Но требуют к себе очень большого вниман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Скругленный прямоугольник 8"/>
          <p:cNvGrpSpPr/>
          <p:nvPr/>
        </p:nvGrpSpPr>
        <p:grpSpPr>
          <a:xfrm>
            <a:off x="5999040" y="2610000"/>
            <a:ext cx="2432160" cy="3571560"/>
            <a:chOff x="5999040" y="2610000"/>
            <a:chExt cx="2432160" cy="3571560"/>
          </a:xfrm>
        </p:grpSpPr>
        <p:pic>
          <p:nvPicPr>
            <p:cNvPr id="21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5999040" y="2610000"/>
              <a:ext cx="243216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183360" y="2754360"/>
              <a:ext cx="206388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Constantia"/>
                </a:rPr>
                <a:t>Бесхвостые (Лягушки и Жаб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Рекомендуется знакомить детей этим отрядом подробн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птилии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( пресмыкающиеся)</a:t>
            </a:r>
            <a:br>
              <a:rPr sz="29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отряда: Змеи, Ящерицы, Крокодилы, Черепахи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Черепах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тип Хордовые, подтип Позвоночные, класс Рептилии, или Пресмыкающиеся, отряд Черепахи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0670"/>
                </a:solidFill>
                <a:latin typeface="Times New Roman"/>
                <a:ea typeface="Times New Roman"/>
              </a:rPr>
              <a:t>Строение тел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овищ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ос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0670"/>
                </a:solidFill>
                <a:latin typeface="Times New Roman"/>
                <a:ea typeface="Times New Roman"/>
              </a:rPr>
              <a:t>Среда обитани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ная черепаха – степные, полупустынные регионы Средней Азии и Казахста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тные черепахи – европейская часть России, Приморье, Кавказ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3" descr="D:\натташа\картинки\Коллекция картинок 3(Microsoft)\j0356644.gif"/>
          <p:cNvPicPr/>
          <p:nvPr/>
        </p:nvPicPr>
        <p:blipFill>
          <a:blip r:embed="rId1"/>
          <a:stretch/>
        </p:blipFill>
        <p:spPr>
          <a:xfrm>
            <a:off x="785880" y="3357720"/>
            <a:ext cx="257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r>
              <a:rPr b="1" lang="en-US" sz="4600" spc="-1" strike="noStrike">
                <a:solidFill>
                  <a:srgbClr val="000099"/>
                </a:solidFill>
                <a:latin typeface="Times New Roman"/>
              </a:rPr>
              <a:t>Спасибо за </a:t>
            </a:r>
            <a:br>
              <a:rPr sz="4600"/>
            </a:br>
            <a:r>
              <a:rPr b="1" lang="en-US" sz="4600" spc="-1" strike="noStrike">
                <a:solidFill>
                  <a:srgbClr val="000099"/>
                </a:solidFill>
                <a:latin typeface="Times New Roman"/>
              </a:rPr>
              <a:t>внимание!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6:37Z</dcterms:created>
  <dc:creator>Admin</dc:creator>
  <dc:description/>
  <dc:language>en-US</dc:language>
  <cp:lastModifiedBy>студент</cp:lastModifiedBy>
  <dcterms:modified xsi:type="dcterms:W3CDTF">2010-05-22T08:27:18Z</dcterms:modified>
  <cp:revision>5</cp:revision>
  <dc:subject/>
  <dc:title>Слайд 1</dc:title>
</cp:coreProperties>
</file>